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A57-8A8E-41D1-8E5D-4F2CDCBC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FCB-7123-4C19-9630-E91E6083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84F-10B0-4AF2-A7FF-DD56BD0D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81B-E835-4448-9CEE-4C4B959D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053E-6B06-48DC-B69B-695B9C6D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7AC2-9139-4DAF-8C27-E3C18513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A07B-921E-43CE-9CFF-93783F2F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305E-E624-4FCD-AD91-B27AC17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AEAF-8CC6-4A3F-BA27-28037A2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FCED-37B5-4935-BDE1-D9A3B27E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2D7B-1452-4CE9-9C18-5DCA8CCB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A36-A017-4FD3-8AAF-CF6B10B0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4A48-8A53-4D67-8DBC-1710168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F65-9FE0-43C0-BB24-68A88A63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2DAD-570B-4F17-BCCD-5D495C62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0FE8-2673-4F00-8AB7-AD77A731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6D49-C42F-40F7-89CF-1BD098E3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009B-9BF2-4964-B695-63CC4F42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E92C-ADE6-4B09-8957-FEF00CEB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6021-87DE-45A9-970A-19066CBE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8D06-FAB2-41F1-ACA7-BFAC60E2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F897-EBAD-4E43-B8D4-CD69002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9C9-24C5-4814-A9A4-C9627854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993E-6294-40FD-BFF3-AB96463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BA70-C8A0-4106-B4A8-F90C8D49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82098-00BD-40C8-B5B6-1C22FFD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3B12-BB9A-4B0D-82D0-A00101A8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8B00-0A6E-439E-9327-16915C1D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C020-C92B-49F4-ABFE-CDFB23A3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788F-0D62-4394-B66B-262CBF04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7128D-92C0-4A3F-A250-92CEC763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2243-CDA2-445F-A510-1F8261D2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49FAE-2D38-4896-B0F2-F5F2D03B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846-4749-4EEB-8756-9B4DFD33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3807-615E-4FD0-AA45-07128A7A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139D-CC38-4954-B44D-6E70AEED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02679-1B39-442F-9B5D-FD32A0DD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BFC3-0AEC-4E1A-BE86-31608404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3049-A3A9-43AE-836B-E352C1B9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8EA0-DFC1-4CF8-84D9-40C733D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8F11-1969-454A-A3F5-3CB1C7E5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B5C2-2C47-40A1-AD64-9801A317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0F92-2E9A-4F21-997E-073E89D5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1AD89-B702-4B75-A4A1-C31EEFB6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991-0747-46E4-A77A-037755B0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C2E3-CE7C-4440-8899-FE7F8C18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AA365-F5B5-49BD-AECC-101BC271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9F2A-65CF-4EC5-945E-A87DA49E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0BACC-7F90-4B35-94DF-43AE9308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01E50-DA1C-4B6E-BB60-363F36F1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15C3-664A-42E4-BACF-6A57812F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95B9-9E74-44F8-B545-8386644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4AC3-FEA2-438C-A7E6-F426314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F6261-E048-45FA-9F56-921D6AC8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895CB-67B0-4F10-ABAE-8152249A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14B-12ED-4B8C-9576-4F0BECEE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CCC25-81AE-42FD-AE3F-28F958FA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ADB7F-BE52-4211-A99E-F653ED4D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37525-370A-4C4B-AAFA-2EF81B6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3DDA9-8771-4EA8-883F-B6D9043D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25B4-E5F2-4759-ACE4-8B33B66D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8483E-7A22-4C27-8883-697895DF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6740F-E35B-425A-8F28-7FF3821F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2AB7-FBF1-4B51-B4F5-F18B1F16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91A4E-4F10-41A3-B869-F38D9B8E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1B9DE-F33F-4F37-A58F-92682FA5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5A1-C1A0-4301-BEF3-12DBDC3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D1BA7-76AD-4617-A861-176894A2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84BC-D923-4673-95CC-01366F08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3508C-5FBD-41FF-9315-1B471753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69B2C-1B23-481E-BF1A-0283126D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A624B-203C-41F3-93E5-1D256658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356B1-E256-4F25-9022-ADA25465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389F7-F877-41D4-B66E-8E7B9EFA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2D2EC-5566-4413-8F1C-56F27AF2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A9BFC-4D4E-4E06-8075-A993C225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B1AC6-F92E-4E2D-B307-672FE09F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061-6A9B-4E90-8487-FD6D91BE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BD7C6-E38D-4C35-B634-464861E8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A1CFF-3BFD-4EA4-9162-00C2BEC1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BEC17-A59C-4C7A-ABB1-20E328B8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CA3D5-2083-4F41-B0AD-D8368523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3B7F-4BF0-4736-B5E8-6BBDF0D3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5D631-57B3-4C8D-9FD5-259D737B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251E3-6943-4212-B3B0-3FB8435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74F10-0B95-47B7-9419-68870139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96AB1-6F2C-4864-8FDF-D5BAE716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2EB4C-6C40-4160-941F-AD780F24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9DC-B44F-4EDE-88ED-489ACBA6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37EBD-34EE-4173-BC32-3C0AF7ED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3F1B6-1C1B-4D08-85BC-7E42E41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8619D-34A6-4104-8B00-C84CFCD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39734-AD2F-497C-A9EB-C59ADE80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CD209-74A9-4A67-8085-8C449F80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B651-E231-458A-B58A-12B5F491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958B1-2614-494B-BC51-39572C64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6EE5-48E1-47F1-AC77-7C996C5F8AB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4CDB-00D9-4441-8877-E4B7CD61524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E9D-DD2F-4126-8E2F-BE36A8DF490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035-A7E9-4F7D-AA03-A98829EC040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BFF8-88A4-4732-BC52-6015E438DC8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3BC5-EDB6-481D-844F-34E2678A400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0157-6C19-4D85-AA4C-AB5776669B2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ECC9-CD3B-4BA1-BD41-877374C2DA0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645000" y="622440"/>
            <a:ext cx="590688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285720" y="285480"/>
            <a:ext cx="34290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Тема проекта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2071800" y="621504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ыктывкар.  2010 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1928880" y="421488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Lucida Sans Unicode"/>
              </a:rPr>
              <a:t>Автор: студентка 4-го курса физико –математического факультета Карпова К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E:\Documents\Катя\eg101207-7.jpg"/>
          <p:cNvPicPr/>
          <p:nvPr/>
        </p:nvPicPr>
        <p:blipFill>
          <a:blip r:embed="rId2"/>
          <a:stretch/>
        </p:blipFill>
        <p:spPr>
          <a:xfrm>
            <a:off x="-152280" y="725400"/>
            <a:ext cx="4389480" cy="3541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геометрические фигуры в архитектуре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de6c3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публикац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Природные творения в виде геометрических фигур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274680" y="122400"/>
            <a:ext cx="8717040" cy="134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71680" y="1428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Lucida Sans Unicode"/>
              </a:rPr>
              <a:t>В чем магия геометрических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Lucida Sans Unicode"/>
              </a:rPr>
              <a:t>фигур?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400px-Hexahedron"/>
          <p:cNvPicPr/>
          <p:nvPr/>
        </p:nvPicPr>
        <p:blipFill>
          <a:blip r:embed="rId2"/>
          <a:stretch/>
        </p:blipFill>
        <p:spPr>
          <a:xfrm>
            <a:off x="214200" y="2714760"/>
            <a:ext cx="2786040" cy="3098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20070921021819"/>
          <p:cNvPicPr/>
          <p:nvPr/>
        </p:nvPicPr>
        <p:blipFill>
          <a:blip r:embed="rId3"/>
          <a:stretch/>
        </p:blipFill>
        <p:spPr>
          <a:xfrm>
            <a:off x="3000240" y="3714840"/>
            <a:ext cx="2881440" cy="2881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mage11271"/>
          <p:cNvPicPr/>
          <p:nvPr/>
        </p:nvPicPr>
        <p:blipFill>
          <a:blip r:embed="rId4"/>
          <a:stretch/>
        </p:blipFill>
        <p:spPr>
          <a:xfrm>
            <a:off x="5857920" y="2500200"/>
            <a:ext cx="3063960" cy="3063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Какие геометрические фигуры встречаются в природе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Есть ли геометрические фигуры в архитектуре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853920" y="133200"/>
            <a:ext cx="6796080" cy="1341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0680"/>
            <a:ext cx="82296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Есть ли геометрические фигуры в космосе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то будет с геометрическими фигурами в будущем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5"/>
          <p:cNvSpPr/>
          <p:nvPr/>
        </p:nvSpPr>
        <p:spPr>
          <a:xfrm>
            <a:off x="428760" y="285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Учебные предм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1428840" y="78588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Геометрия, ис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428760" y="1143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1428840" y="150012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ащиеся 7-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571680" y="2714760"/>
            <a:ext cx="742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познаний о возникновении геометрических фигур из практическ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геометрического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познаний в области гео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428760" y="19288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Дидак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1428840" y="1357200"/>
            <a:ext cx="5715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льзоваться языком геометрии для описания предметов окружающего ми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спознавать геометрические фигуры, различать их взаимное располо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спользовать знания и умения по геометрии в практической деятельности и повседнев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99680" y="428760"/>
            <a:ext cx="4614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еникам часто кажется, что геометрия – это скучный набор формул и фигур. И они не догадываются, что геометрические фигуры находят свое отражение практически во всех отраслях знаний:  архитектура,  искусство и т.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Picture 5" descr="706073"/>
          <p:cNvPicPr/>
          <p:nvPr/>
        </p:nvPicPr>
        <p:blipFill>
          <a:blip r:embed="rId1"/>
          <a:stretch/>
        </p:blipFill>
        <p:spPr>
          <a:xfrm>
            <a:off x="5286240" y="0"/>
            <a:ext cx="3857760" cy="5143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000080" y="499680"/>
            <a:ext cx="3929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еометрические фигуры, представляют собой могущественный инструмент познания природы, создания техники и преобразования ми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i-main-pic" descr="Картинка 3 из 151"/>
          <p:cNvPicPr/>
          <p:nvPr/>
        </p:nvPicPr>
        <p:blipFill>
          <a:blip r:embed="rId1"/>
          <a:stretch/>
        </p:blipFill>
        <p:spPr>
          <a:xfrm>
            <a:off x="5715000" y="571680"/>
            <a:ext cx="3095640" cy="492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Заголовок 7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8"/>
          <p:cNvSpPr/>
          <p:nvPr/>
        </p:nvSpPr>
        <p:spPr>
          <a:xfrm>
            <a:off x="1071720" y="1285920"/>
            <a:ext cx="728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 Подготовительный (осознание проблемной ситуации, выбор темы проекта, постановка це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. Проектировочный (выбор тем исследований учащихся, формирование групп для проведения исслед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3. Заключительный(защита проектов и подведение итог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2:39:23Z</dcterms:created>
  <dc:creator>Admin</dc:creator>
  <dc:description/>
  <dc:language>en-US</dc:language>
  <cp:lastModifiedBy>Dimon</cp:lastModifiedBy>
  <dcterms:modified xsi:type="dcterms:W3CDTF">2010-05-28T12:13:08Z</dcterms:modified>
  <cp:revision>104</cp:revision>
  <dc:subject/>
  <dc:title>Семь чудес света в геометрии  </dc:title>
</cp:coreProperties>
</file>